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796-D20A-4885-8631-C07ACC362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5389-CD5D-45B7-8BB5-A6CB9A56E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77AE-2001-439D-907B-9D9604B66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DE5-925F-489E-9B79-7F7CE7F9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0F4-3A64-41C8-86B1-6CD63B1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89F-821F-4349-BB00-4B04166B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210-7277-485A-B7BA-19BF871B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09B-3F1D-498F-8593-09FCA59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E6B-3B0F-4BB6-86B8-29EDA3C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ED5-C8EA-4DAB-A658-AF34C42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3DB-CA2F-4AFE-A8C0-1FC879E1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BDA-3F92-40FB-9C21-51A78EE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19C-5631-44B0-A8E1-F24772F0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3FF-B3B4-4A12-8F5E-C59E47B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7C0-80A9-4F9F-805B-FFFF181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53E-1BF6-4125-BA3F-1E16A0754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Switches-Catalyst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4948E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4948E-F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4948E-F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4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X4904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8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X4908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20-GB-RJ45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X4920-GB-RJ45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4948-10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S-4948-10GE.emf"/>
          <p:cNvPicPr/>
          <p:nvPr/>
        </p:nvPicPr>
        <p:blipFill>
          <a:blip r:embed="rId1"/>
          <a:stretch/>
        </p:blipFill>
        <p:spPr>
          <a:xfrm>
            <a:off x="4083120" y="3562200"/>
            <a:ext cx="977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4900M.emf"/>
          <p:cNvPicPr/>
          <p:nvPr/>
        </p:nvPicPr>
        <p:blipFill>
          <a:blip r:embed="rId1"/>
          <a:stretch/>
        </p:blipFill>
        <p:spPr>
          <a:xfrm>
            <a:off x="4084560" y="3510000"/>
            <a:ext cx="974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 (r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4900M_(rear).emf"/>
          <p:cNvPicPr/>
          <p:nvPr/>
        </p:nvPicPr>
        <p:blipFill>
          <a:blip r:embed="rId1"/>
          <a:stretch/>
        </p:blipFill>
        <p:spPr>
          <a:xfrm>
            <a:off x="4076640" y="3510000"/>
            <a:ext cx="9907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4948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4948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4948_Front.emf"/>
          <p:cNvPicPr/>
          <p:nvPr/>
        </p:nvPicPr>
        <p:blipFill>
          <a:blip r:embed="rId1"/>
          <a:stretch/>
        </p:blipFill>
        <p:spPr>
          <a:xfrm>
            <a:off x="4029120" y="353700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4948E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2T22:14:03Z</dcterms:modified>
  <cp:revision>5</cp:revision>
  <dc:subject/>
  <dc:title>Title Slide</dc:title>
</cp:coreProperties>
</file>